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F546-12BA-4190-AA0A-BA3B9B4D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CB0D-E6A2-4DD7-AF33-F15BE905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8B7A-7883-4303-815E-9AE2FED4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B5C2-C8C0-4EB5-BFDF-52B5EF7B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D529-3A01-4124-8EA0-1E0E49CE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AAA7-F92F-415C-857D-03587285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AD9D-8602-4AEA-B9D7-0442D5D6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BA70-14EE-450D-9750-B4745478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5D42-27A4-491E-8585-403D86E3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82A1-A812-40C8-8F56-C89A81FE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BB89-127A-4B7A-8800-D43D82C1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2D56-726B-41EC-ACDF-27B1CA43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0230-BFB3-4594-8127-7BAD82E6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1BE6-05C2-449D-98E4-4DA4AAFD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A438-68F0-4BE7-92E0-358F4ABA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EE82-548D-4C3D-94D9-B82F2889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2F41-45BC-4670-B389-18AAECE7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A759-BC6A-45CD-87B9-7A76F209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1C06-F046-4A6F-9B50-9A887F66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0D57-BBD1-4EDA-B8B3-2413238D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2A8D-056D-4337-978D-FC7DEBF8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2D18-026A-40DE-BF86-A657F408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5111-F522-4B2F-9E1D-3F8D5F81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5C8A-7B76-460D-9CE0-6D6291FA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dcf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dc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adc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adc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adc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CAF9-94DB-4608-94B8-0D36A39F0E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0384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D833-3255-4899-B4BB-436A11E38A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dcf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adc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adc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adc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40384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add tit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5105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dcf6"/>
                </a:solidFill>
                <a:latin typeface="Arial"/>
              </a:rPr>
              <a:t>Click to add subtitle</a:t>
            </a: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dcf6"/>
                </a:solidFill>
                <a:latin typeface="Times New Roman"/>
              </a:rPr>
              <a:t>Agenda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190512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74617"/>
              </a:gs>
              <a:gs pos="50000">
                <a:srgbClr val="be9932"/>
              </a:gs>
              <a:gs pos="100000">
                <a:srgbClr val="57461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Agenda I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266688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13466c"/>
              </a:gs>
              <a:gs pos="50000">
                <a:srgbClr val="2a99ec"/>
              </a:gs>
              <a:gs pos="100000">
                <a:srgbClr val="13466c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Agenda I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342900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33511d"/>
              </a:gs>
              <a:gs pos="50000">
                <a:srgbClr val="70b040"/>
              </a:gs>
              <a:gs pos="100000">
                <a:srgbClr val="33511d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Agenda I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419112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314161"/>
              </a:gs>
              <a:gs pos="50000">
                <a:srgbClr val="6b8ed3"/>
              </a:gs>
              <a:gs pos="100000">
                <a:srgbClr val="314161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Agenda I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dcf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9adcf6"/>
                </a:solidFill>
                <a:latin typeface="Times New Roman"/>
              </a:rPr>
              <a:t>Cycle Diagram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20241600">
            <a:off x="1077480" y="23094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2a99ec"/>
              </a:gs>
              <a:gs pos="100000">
                <a:srgbClr val="eaf4fc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14479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70b040"/>
              </a:gs>
              <a:gs pos="100000">
                <a:srgbClr val="263c1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29718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be9932"/>
              </a:gs>
              <a:gs pos="100000">
                <a:srgbClr val="3b2f0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78000" y="46688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2a99ec"/>
              </a:gs>
              <a:gs pos="100000">
                <a:srgbClr val="0e365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40384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9adcf6"/>
              </a:gs>
              <a:gs pos="100000">
                <a:srgbClr val="364e57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16765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6b8ed3"/>
              </a:gs>
              <a:gs pos="100000">
                <a:srgbClr val="24304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48000" y="3505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39640" y="19051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71480" y="2182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81560" y="4495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60600" y="51195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34336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73200" y="1735200"/>
            <a:ext cx="1793880" cy="161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3" name=""/>
          <p:cNvCxnSpPr/>
          <p:nvPr/>
        </p:nvCxnSpPr>
        <p:spPr>
          <a:xfrm flipH="1">
            <a:off x="456840" y="173484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534600" y="12952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dcf6"/>
                </a:solidFill>
                <a:latin typeface="Times New Roman"/>
              </a:rPr>
              <a:t>Progress Diagram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22860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13466c"/>
              </a:gs>
              <a:gs pos="100000">
                <a:srgbClr val="2a99ec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22860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3511d"/>
              </a:gs>
              <a:gs pos="100000">
                <a:srgbClr val="70b04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2860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74617"/>
              </a:gs>
              <a:gs pos="100000">
                <a:srgbClr val="be9932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4479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4617"/>
              </a:gs>
              <a:gs pos="100000">
                <a:srgbClr val="be993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86160" y="14479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511d"/>
              </a:gs>
              <a:gs pos="100000">
                <a:srgbClr val="70b04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14479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3466c"/>
              </a:gs>
              <a:gs pos="100000">
                <a:srgbClr val="2a99ec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dcf6"/>
                </a:solidFill>
                <a:latin typeface="Times New Roman"/>
              </a:rPr>
              <a:t>Block Diagram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111680" y="1553760"/>
            <a:ext cx="6437160" cy="1387800"/>
            <a:chOff x="1111680" y="1553760"/>
            <a:chExt cx="6437160" cy="1387800"/>
          </a:xfrm>
        </p:grpSpPr>
        <p:sp>
          <p:nvSpPr>
            <p:cNvPr id="118" name="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70b040"/>
                </a:gs>
                <a:gs pos="100000">
                  <a:srgbClr val="33511d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286360" y="1950480"/>
              <a:ext cx="931680" cy="131760"/>
              <a:chOff x="2286360" y="1950480"/>
              <a:chExt cx="931680" cy="131760"/>
            </a:xfrm>
          </p:grpSpPr>
          <p:sp>
            <p:nvSpPr>
              <p:cNvPr id="120" name="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37564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7692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15288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 rot="3418800">
              <a:off x="304308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2a99ec"/>
                </a:gs>
                <a:gs pos="100000">
                  <a:srgbClr val="13466c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4007880" y="1950480"/>
              <a:ext cx="931680" cy="131760"/>
              <a:chOff x="4007880" y="1950480"/>
              <a:chExt cx="931680" cy="131760"/>
            </a:xfrm>
          </p:grpSpPr>
          <p:sp>
            <p:nvSpPr>
              <p:cNvPr id="126" name=""/>
              <p:cNvSpPr/>
              <p:nvPr/>
            </p:nvSpPr>
            <p:spPr>
              <a:xfrm>
                <a:off x="400788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09716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79844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7440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 rot="3418800">
              <a:off x="469260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70b040"/>
                </a:gs>
                <a:gs pos="100000">
                  <a:srgbClr val="33511d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5729040" y="1950480"/>
              <a:ext cx="1218240" cy="131760"/>
              <a:chOff x="5729040" y="1950480"/>
              <a:chExt cx="1218240" cy="131760"/>
            </a:xfrm>
          </p:grpSpPr>
          <p:sp>
            <p:nvSpPr>
              <p:cNvPr id="132" name=""/>
              <p:cNvSpPr/>
              <p:nvPr/>
            </p:nvSpPr>
            <p:spPr>
              <a:xfrm>
                <a:off x="5729040" y="19504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4568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762600" y="19526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861960" y="19936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 rot="3418800">
              <a:off x="641376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2a99ec"/>
                </a:gs>
                <a:gs pos="100000">
                  <a:srgbClr val="13466c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dcf6"/>
                </a:solidFill>
                <a:latin typeface="Times New Roman"/>
              </a:rPr>
              <a:t>Table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85800" y="1857240"/>
          <a:ext cx="7620120" cy="340020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0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511d"/>
                        </a:gs>
                        <a:gs pos="50000">
                          <a:srgbClr val="70b040"/>
                        </a:gs>
                        <a:gs pos="100000">
                          <a:srgbClr val="33511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9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511d"/>
                        </a:gs>
                        <a:gs pos="50000">
                          <a:srgbClr val="70b040"/>
                        </a:gs>
                        <a:gs pos="100000">
                          <a:srgbClr val="33511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511d"/>
                        </a:gs>
                        <a:gs pos="50000">
                          <a:srgbClr val="70b040"/>
                        </a:gs>
                        <a:gs pos="100000">
                          <a:srgbClr val="33511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9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511d"/>
                        </a:gs>
                        <a:gs pos="50000">
                          <a:srgbClr val="70b040"/>
                        </a:gs>
                        <a:gs pos="100000">
                          <a:srgbClr val="33511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0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511d"/>
                        </a:gs>
                        <a:gs pos="50000">
                          <a:srgbClr val="70b040"/>
                        </a:gs>
                        <a:gs pos="100000">
                          <a:srgbClr val="33511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511d"/>
                        </a:gs>
                        <a:gs pos="50000">
                          <a:srgbClr val="70b040"/>
                        </a:gs>
                        <a:gs pos="100000">
                          <a:srgbClr val="33511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dcf6"/>
                </a:solidFill>
                <a:latin typeface="Times New Roman"/>
              </a:rPr>
              <a:t>3-D Pie Chart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87720" y="4178160"/>
            <a:ext cx="5562360" cy="1325880"/>
          </a:xfrm>
          <a:prstGeom prst="ellipse">
            <a:avLst/>
          </a:prstGeom>
          <a:gradFill rotWithShape="0">
            <a:gsLst>
              <a:gs pos="0">
                <a:srgbClr val="0066cc"/>
              </a:gs>
              <a:gs pos="100000">
                <a:srgbClr val="29292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20601600">
            <a:off x="1461960" y="20649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0601600">
            <a:off x="1517400" y="1903320"/>
            <a:ext cx="5564160" cy="292284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20601600">
            <a:off x="1382400" y="1920960"/>
            <a:ext cx="5748840" cy="29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67" y="14960"/>
                </a:moveTo>
                <a:arcTo wR="10800" hR="10800" stAng="1359439" swAng="2520569"/>
                <a:lnTo>
                  <a:pt x="10800" y="10800"/>
                </a:lnTo>
                <a:close/>
              </a:path>
              <a:path fill="none" w="21600" h="21600">
                <a:moveTo>
                  <a:pt x="20767" y="14960"/>
                </a:moveTo>
                <a:arcTo wR="10800" hR="10800" stAng="1359439" swAng="2520569"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20601600">
            <a:off x="1434960" y="1888560"/>
            <a:ext cx="569844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rot="20602200">
            <a:off x="1438200" y="1902960"/>
            <a:ext cx="5752440" cy="28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0601600">
            <a:off x="1440000" y="1900800"/>
            <a:ext cx="56826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rot="20602200">
            <a:off x="1423440" y="1908000"/>
            <a:ext cx="5699880" cy="282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20601600">
            <a:off x="4506840" y="322416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20601600">
            <a:off x="4400280" y="297144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28840" y="1221840"/>
            <a:ext cx="6919200" cy="4357800"/>
            <a:chOff x="528840" y="1221840"/>
            <a:chExt cx="6919200" cy="4357800"/>
          </a:xfrm>
        </p:grpSpPr>
        <p:sp>
          <p:nvSpPr>
            <p:cNvPr id="159" name=""/>
            <p:cNvSpPr/>
            <p:nvPr/>
          </p:nvSpPr>
          <p:spPr>
            <a:xfrm rot="20712600">
              <a:off x="781560" y="1993680"/>
              <a:ext cx="6413400" cy="281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0712600">
              <a:off x="4186440" y="3192120"/>
              <a:ext cx="1377720" cy="153684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352973"/>
                </a:gs>
                <a:gs pos="100000">
                  <a:srgbClr val="696097"/>
                </a:gs>
              </a:gsLst>
              <a:lin ang="143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20712600">
              <a:off x="5562360" y="3360600"/>
              <a:ext cx="1579320" cy="97920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003680" y="925200"/>
            <a:ext cx="6957360" cy="4863240"/>
            <a:chOff x="1003680" y="925200"/>
            <a:chExt cx="6957360" cy="4863240"/>
          </a:xfrm>
        </p:grpSpPr>
        <p:sp>
          <p:nvSpPr>
            <p:cNvPr id="163" name=""/>
            <p:cNvSpPr/>
            <p:nvPr/>
          </p:nvSpPr>
          <p:spPr>
            <a:xfrm rot="20601600">
              <a:off x="6073560" y="3263400"/>
              <a:ext cx="1555560" cy="10922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0539200">
              <a:off x="1323720" y="1811160"/>
              <a:ext cx="6316920" cy="309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0601600">
              <a:off x="4757760" y="3094200"/>
              <a:ext cx="1332000" cy="168876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ae8dd3"/>
                </a:gs>
                <a:gs pos="100000">
                  <a:srgbClr val="5007a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 rot="20601600">
            <a:off x="2979360" y="2617560"/>
            <a:ext cx="2695680" cy="1339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0601600">
            <a:off x="3056040" y="2852280"/>
            <a:ext cx="2624040" cy="1098720"/>
          </a:xfrm>
          <a:prstGeom prst="ellipse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16080" y="2438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15880" y="1981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7080" y="27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8480" y="4038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10960" y="4267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24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dcf6"/>
                </a:solidFill>
                <a:latin typeface="Times New Roman"/>
              </a:rPr>
              <a:t>Marketing Diagram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63760" y="2314440"/>
            <a:ext cx="5759280" cy="215928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9adcf6"/>
              </a:gs>
              <a:gs pos="100000">
                <a:srgbClr val="dcf2f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486320" y="4038480"/>
            <a:ext cx="1512720" cy="1511280"/>
            <a:chOff x="4486320" y="4038480"/>
            <a:chExt cx="1512720" cy="1511280"/>
          </a:xfrm>
        </p:grpSpPr>
        <p:sp>
          <p:nvSpPr>
            <p:cNvPr id="177" name=""/>
            <p:cNvSpPr/>
            <p:nvPr/>
          </p:nvSpPr>
          <p:spPr>
            <a:xfrm>
              <a:off x="4486320" y="40384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e993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86320" y="40384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be9932"/>
                </a:gs>
                <a:gs pos="100000">
                  <a:srgbClr val="d8c3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85320" y="41371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66521a"/>
                </a:gs>
                <a:gs pos="50000">
                  <a:srgbClr val="be9932"/>
                </a:gs>
                <a:gs pos="100000">
                  <a:srgbClr val="66521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85320" y="41371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5c4a18"/>
                </a:gs>
                <a:gs pos="100000">
                  <a:srgbClr val="be993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51200" y="420300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574617"/>
                </a:gs>
                <a:gs pos="100000">
                  <a:srgbClr val="be99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887400" y="4038480"/>
            <a:ext cx="1513080" cy="1511280"/>
            <a:chOff x="887400" y="4038480"/>
            <a:chExt cx="1513080" cy="1511280"/>
          </a:xfrm>
        </p:grpSpPr>
        <p:sp>
          <p:nvSpPr>
            <p:cNvPr id="183" name=""/>
            <p:cNvSpPr/>
            <p:nvPr/>
          </p:nvSpPr>
          <p:spPr>
            <a:xfrm>
              <a:off x="887400" y="40384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adcf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87400" y="40384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9adcf6"/>
                </a:gs>
                <a:gs pos="100000">
                  <a:srgbClr val="c7ebf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86400" y="41371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537684"/>
                </a:gs>
                <a:gs pos="50000">
                  <a:srgbClr val="9adcf6"/>
                </a:gs>
                <a:gs pos="100000">
                  <a:srgbClr val="5376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86400" y="41371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4a6a77"/>
                </a:gs>
                <a:gs pos="100000">
                  <a:srgbClr val="9adcf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52280" y="420300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466571"/>
                </a:gs>
                <a:gs pos="100000">
                  <a:srgbClr val="9adc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359400" y="4038480"/>
            <a:ext cx="1513080" cy="1511280"/>
            <a:chOff x="6359400" y="4038480"/>
            <a:chExt cx="1513080" cy="1511280"/>
          </a:xfrm>
        </p:grpSpPr>
        <p:sp>
          <p:nvSpPr>
            <p:cNvPr id="189" name=""/>
            <p:cNvSpPr/>
            <p:nvPr/>
          </p:nvSpPr>
          <p:spPr>
            <a:xfrm>
              <a:off x="6359400" y="40384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b8ed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59400" y="40384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6b8ed3"/>
                </a:gs>
                <a:gs pos="100000">
                  <a:srgbClr val="9bb2e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58400" y="41371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394c71"/>
                </a:gs>
                <a:gs pos="50000">
                  <a:srgbClr val="6b8ed3"/>
                </a:gs>
                <a:gs pos="100000">
                  <a:srgbClr val="394c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58400" y="41371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334466"/>
                </a:gs>
                <a:gs pos="100000">
                  <a:srgbClr val="6b8e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24280" y="420300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314161"/>
                </a:gs>
                <a:gs pos="100000">
                  <a:srgbClr val="6b8e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687760" y="4038480"/>
            <a:ext cx="1512720" cy="1511280"/>
            <a:chOff x="2687760" y="4038480"/>
            <a:chExt cx="1512720" cy="1511280"/>
          </a:xfrm>
        </p:grpSpPr>
        <p:sp>
          <p:nvSpPr>
            <p:cNvPr id="195" name=""/>
            <p:cNvSpPr/>
            <p:nvPr/>
          </p:nvSpPr>
          <p:spPr>
            <a:xfrm>
              <a:off x="2687760" y="40384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0b04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87760" y="40384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70b040"/>
                </a:gs>
                <a:gs pos="100000">
                  <a:srgbClr val="9ac7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86760" y="41371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c5e22"/>
                </a:gs>
                <a:gs pos="50000">
                  <a:srgbClr val="70b040"/>
                </a:gs>
                <a:gs pos="100000">
                  <a:srgbClr val="3c5e2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86760" y="41371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6551f"/>
                </a:gs>
                <a:gs pos="100000">
                  <a:srgbClr val="70b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52640" y="420300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33511d"/>
                </a:gs>
                <a:gs pos="100000">
                  <a:srgbClr val="70b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905120" y="1676520"/>
            <a:ext cx="4876560" cy="457200"/>
          </a:xfrm>
          <a:prstGeom prst="roundRect">
            <a:avLst>
              <a:gd name="adj" fmla="val 50000"/>
            </a:avLst>
          </a:prstGeom>
          <a:solidFill>
            <a:srgbClr val="2a99e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20400" y="4662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78000" y="4662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0" y="4662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82760" y="4648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7:09:11Z</dcterms:created>
  <dc:creator>Bonnie Ritchey</dc:creator>
  <dc:description/>
  <dc:language>en-US</dc:language>
  <cp:lastModifiedBy>Bonnie Ritchey</cp:lastModifiedBy>
  <dcterms:modified xsi:type="dcterms:W3CDTF">2004-10-24T17:09:40Z</dcterms:modified>
  <cp:revision>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11033</vt:lpwstr>
  </property>
</Properties>
</file>